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8ADA-AFF8-46DB-9BF6-212D1DAD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BA5-2A1B-4C9C-9A16-053A4866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0E2-54E7-4586-B606-95C11F58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CD4-4FCA-449A-B8A2-07D999A5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FE5-AD49-477D-BE03-CE014B0A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21F-67AF-4D7C-967C-51152698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DE5-E726-41F4-AA8E-23121F2D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660-31E2-429A-9473-81484452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31D-18FD-4305-8B94-4EFEF1D7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A07-382B-49B3-A6B7-1C38625C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1257-214D-4D48-AEE8-62B45608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98FD-9265-42D7-91C4-DDA8F6AA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32D2-53C8-401F-AC9D-A1BF9713BC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2928960" y="2060640"/>
            <a:ext cx="574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Могут ли быть у робота глаз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116000" y="476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haroni"/>
              </a:rPr>
              <a:t>Robo-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3000240" y="4143240"/>
            <a:ext cx="6143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Исследовательская группа в соста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Пупкина Василия– 10б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клас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Сусанина Ивана – 10б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5"/>
          <p:cNvGrpSpPr/>
          <p:nvPr/>
        </p:nvGrpSpPr>
        <p:grpSpPr>
          <a:xfrm>
            <a:off x="0" y="6453360"/>
            <a:ext cx="9144000" cy="406080"/>
            <a:chOff x="0" y="6453360"/>
            <a:chExt cx="9144000" cy="406080"/>
          </a:xfrm>
        </p:grpSpPr>
        <p:sp>
          <p:nvSpPr>
            <p:cNvPr id="45" name="Rectangle 14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0000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3"/>
            <p:cNvSpPr/>
            <p:nvPr/>
          </p:nvSpPr>
          <p:spPr>
            <a:xfrm>
              <a:off x="1835280" y="6491160"/>
              <a:ext cx="53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МОУ СОШ  села Дальн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9" descr=""/>
          <p:cNvPicPr/>
          <p:nvPr/>
        </p:nvPicPr>
        <p:blipFill>
          <a:blip r:embed="rId1"/>
          <a:srcRect l="0" t="13503" r="24490" b="0"/>
          <a:stretch/>
        </p:blipFill>
        <p:spPr>
          <a:xfrm>
            <a:off x="214200" y="2000160"/>
            <a:ext cx="264348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3348000" y="836640"/>
            <a:ext cx="54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Роботы… еще недавно они казались сказочными персонажами наподобие Дюймовочки, Железного дровосека. А теперь стоит только оглянуться- ты увидищь их везде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1835280" y="649116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ОУ СОШ № 8 село Спас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5238720" y="350028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-428760" y="357120"/>
            <a:ext cx="37465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826920" y="476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omic Sans MS"/>
              </a:rPr>
              <a:t>Может ли робот виде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403280" y="1773360"/>
            <a:ext cx="73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едположен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Робот не может виде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403280" y="306864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едположени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Роботы могут видеть, если человек это захо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8"/>
          <p:cNvGrpSpPr/>
          <p:nvPr/>
        </p:nvGrpSpPr>
        <p:grpSpPr>
          <a:xfrm>
            <a:off x="0" y="6453360"/>
            <a:ext cx="9144000" cy="406080"/>
            <a:chOff x="0" y="6453360"/>
            <a:chExt cx="9144000" cy="406080"/>
          </a:xfrm>
        </p:grpSpPr>
        <p:sp>
          <p:nvSpPr>
            <p:cNvPr id="57" name="Rectangle 9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0000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0"/>
            <p:cNvSpPr/>
            <p:nvPr/>
          </p:nvSpPr>
          <p:spPr>
            <a:xfrm>
              <a:off x="1835280" y="6491160"/>
              <a:ext cx="53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МОУ СОШ № 8 село Спасс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785520" cy="938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2"/>
          <a:stretch/>
        </p:blipFill>
        <p:spPr>
          <a:xfrm>
            <a:off x="428760" y="2857680"/>
            <a:ext cx="7855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826920" y="476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omic Sans MS"/>
              </a:rPr>
              <a:t>Методы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403280" y="1773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Анализ данных сети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571760" y="307188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Анализ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8"/>
          <p:cNvGrpSpPr/>
          <p:nvPr/>
        </p:nvGrpSpPr>
        <p:grpSpPr>
          <a:xfrm>
            <a:off x="0" y="6453360"/>
            <a:ext cx="9144000" cy="406080"/>
            <a:chOff x="0" y="6453360"/>
            <a:chExt cx="9144000" cy="406080"/>
          </a:xfrm>
        </p:grpSpPr>
        <p:sp>
          <p:nvSpPr>
            <p:cNvPr id="65" name="Rectangle 9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0000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0"/>
            <p:cNvSpPr/>
            <p:nvPr/>
          </p:nvSpPr>
          <p:spPr>
            <a:xfrm>
              <a:off x="1835280" y="6491160"/>
              <a:ext cx="53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МОУ СОШ № 8 село Спасс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826920" y="476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Результаты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14240" y="1500120"/>
            <a:ext cx="803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Домашним роботам, наподобие пылесосов, зрение в нашем понимании не требуется! Для ориентации в пространстве им вполне достаточно радиомаячков.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8"/>
          <p:cNvGrpSpPr/>
          <p:nvPr/>
        </p:nvGrpSpPr>
        <p:grpSpPr>
          <a:xfrm>
            <a:off x="0" y="6453360"/>
            <a:ext cx="9144000" cy="406080"/>
            <a:chOff x="0" y="6453360"/>
            <a:chExt cx="9144000" cy="406080"/>
          </a:xfrm>
        </p:grpSpPr>
        <p:sp>
          <p:nvSpPr>
            <p:cNvPr id="70" name="Rectangle 9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0000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1835280" y="6491160"/>
              <a:ext cx="53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МОУ СОШ № 8 село Спасс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714760" y="3000240"/>
            <a:ext cx="42289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826920" y="476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Результаты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714240" y="1500120"/>
            <a:ext cx="803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Но вот роботам-спасателям, военным роботам, роботам-танцорам и остальным, которым необходимо визуальное слежение окружающего мира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рение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”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необходимо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0" y="6453360"/>
            <a:ext cx="9144000" cy="406080"/>
            <a:chOff x="0" y="6453360"/>
            <a:chExt cx="9144000" cy="406080"/>
          </a:xfrm>
        </p:grpSpPr>
        <p:sp>
          <p:nvSpPr>
            <p:cNvPr id="76" name="Rectangle 9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0000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0"/>
            <p:cNvSpPr/>
            <p:nvPr/>
          </p:nvSpPr>
          <p:spPr>
            <a:xfrm>
              <a:off x="1835280" y="6491160"/>
              <a:ext cx="53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МОУ СОШ № 8 село Спасс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643120" y="3267000"/>
            <a:ext cx="40672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0:28:28Z</dcterms:created>
  <dc:creator>Андрей</dc:creator>
  <dc:description/>
  <dc:language>en-US</dc:language>
  <cp:lastModifiedBy>26090</cp:lastModifiedBy>
  <dcterms:modified xsi:type="dcterms:W3CDTF">2010-05-15T04:35:42Z</dcterms:modified>
  <cp:revision>49</cp:revision>
  <dc:subject/>
  <dc:title>Слайд 1</dc:title>
</cp:coreProperties>
</file>